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C67-EBBB-41B3-8FB9-4EAF0FA4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9C1-1EC7-4823-90D2-65E9E121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B41-F12E-4DA9-896C-26BAA65A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6268-3D5F-4171-9F5E-BF179019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344-8950-406E-9B9D-ED5D9236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415-091C-4432-ACA9-49F5044D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9BC-D42E-4A62-A453-6FF25CDA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4C2-FB42-4103-8F97-29C1EF4E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BF7-5B50-494C-8845-910A15DE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6E7-7BEF-4C22-B0E8-56DD46C5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E00-17F4-4C51-BE28-19709D08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211-52BA-4881-B179-560B466D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FDEF-AD97-4FF7-976A-F9FC98FC6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janbrett.com/" TargetMode="External"/><Relationship Id="rId2" Type="http://schemas.openxmlformats.org/officeDocument/2006/relationships/hyperlink" Target="http://www.topics-mag.com/foods/special-foods/global-foods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ite Evaluation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URL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ve W’s of Web Site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762120"/>
          <a:ext cx="9144000" cy="65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65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990720"/>
            <a:ext cx="6019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wrote the pages and are they an exp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biography of the author inclu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you find out more about the auth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try a few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403848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anbrett.com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9528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opics-mag.com/foods/special-foods/global-food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563868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go.grolier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may have figured out. It’s not always easy to identify the author of the online web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o isn’t easy to find sometimes, but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 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the sponsor of the web page is easier to figure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es this information 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an I look to find out more about the sponsor of produc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some clues to help us figure out who created the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Suf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domain suffi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ing of a web address the .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.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4419720"/>
            <a:ext cx="298764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Suffix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uc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B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G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m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inf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k12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chool Distr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1897200" cy="1325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10280" y="1828800"/>
            <a:ext cx="1414440" cy="1981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34120" y="4419720"/>
            <a:ext cx="298764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the following web pages together. We will identify who the information came from. What organization is responsible for creating the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ilkey.com/index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activities.macmillanmh.com/reading/treasur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rfall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is information useful for my purp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hould I use this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is page better than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bgnet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dnr.state.wi.us/org/caer/ce/ee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1:44Z</dcterms:created>
  <dc:creator>LLESAGE</dc:creator>
  <dc:description/>
  <dc:language>en-US</dc:language>
  <cp:lastModifiedBy>Administrator</cp:lastModifiedBy>
  <dcterms:modified xsi:type="dcterms:W3CDTF">2009-05-04T18:21:06Z</dcterms:modified>
  <cp:revision>10</cp:revision>
  <dc:subject/>
  <dc:title>Web Site Evaluation Unit</dc:title>
</cp:coreProperties>
</file>